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B8A-0174-4330-AC76-49660DA3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14A-2D22-4AA8-A399-5CA71D5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144-351D-480D-8FC9-CD6D2AEF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206-72A9-45CC-829A-9E2A191C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6FE1-C4B6-475C-B41B-4215DB06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41D-ECD2-42B0-AAEC-FC8D8572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F9C8-BB0B-4D1B-9EF5-CCBF0B6F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C9CC-4240-46D4-AF0F-97D7908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022B-D58C-48A0-8D3E-FCA4EDD9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E26D-93DB-4AE7-87C7-29FF2B5C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386-9469-4581-9BD2-D573012A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83B-A1FF-4776-B8D3-9F5D021B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54F-7682-4816-AAA0-BD24563A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3C9-6D3B-4BDA-A534-7B4539A4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569-CB5A-49B2-AE36-80BFF4D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D550-64E3-406A-8405-CAF4F60A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D50-CF32-4827-B055-2391668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BF2F-DC82-4396-B96E-4C945AC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9A13-DE1A-43D9-9F68-3982072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31511-8059-4110-83AD-D157D9A8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B8B5B-33EC-4F50-BD24-84A5317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3194-DBB2-4139-8861-8B7228BD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2F2-4DB2-4B62-8D40-64C14D4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27D8-B43F-444B-B125-DA007A65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9E04-9ED2-42AA-A618-40D0DB2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B6B5-44A6-4B5E-AD84-6EA4AE5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6E11-B258-4D35-801E-5690D10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230BA-4EE7-4931-86CD-5F185275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F028-9331-49B8-9D4E-086BAAEA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068F-8165-424D-A930-EBE0145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8FD4-B714-4898-B381-4644F581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56822-5483-4CED-90DE-91E14028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6DB4-75DF-40CE-8131-1BB41F2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A52-E6D2-44D7-A757-1775BFA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93EA-32C8-411E-BFFB-066619C8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2B25-73B5-4173-BD60-8A1EED3B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FDC8-FDB4-432D-98EB-57C7661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72DB-9681-4945-93CA-3105B18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3B7E-95BF-4D76-97FA-3EA7E468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D2661-19C6-4AB8-AAA0-7E1837E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93BF-6AEC-4CFC-85DA-5DAF3079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D89FE-058C-4435-BC81-DA823B6F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F277-579E-47B6-966B-A110E399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6827-E401-4060-9EAF-44E3679A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EBF-E59D-4A4A-AB77-59F4E18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B8BCF-F7CC-4330-A9CF-084D689E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C2B2-42C3-4F29-9BB1-C4BF6C0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7DC3-AB60-4F5F-80F6-99293C5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76526-B9E7-4FCF-9162-6DC73FE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36B8-1F5D-4166-87A1-0C55C4C1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C8CF-9029-4C61-9BA9-CF760E46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F0F37-A191-4D31-9A19-08DD343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1FF26-2008-4AB1-BCCA-E4E690A6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34204-FC3F-4D14-8E92-E55B96F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890F-447E-40D6-825D-7A10B26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91B-B043-4306-8E62-E32363C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9375-04B2-42D6-8AF4-3F16049D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0626-C528-4F81-A47E-A988D7AA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109-3CC2-4F99-8FEA-C35C418F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64E-11F4-4F7D-A133-83FC2E7E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1BA-79C5-425B-9BF9-5595A7E1CDD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EF20-FD37-4CE5-82B3-5FEE6F136EB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575-BB4D-45E1-B141-48AB7860CB5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01B-68AD-4748-9099-A4BC780AA92C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A82-C219-46AA-93E0-B6E24E78286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Cassandra Blou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99320" cy="1176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846000" y="1609560"/>
            <a:ext cx="6461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91600" cy="117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ok but limi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pretty accurate when I put in my na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was also scary to know that all I had to do is to type my name and personal info potted up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3:07:40Z</dcterms:created>
  <dc:creator>training</dc:creator>
  <dc:description/>
  <dc:language>en-US</dc:language>
  <cp:lastModifiedBy>training</cp:lastModifiedBy>
  <dcterms:modified xsi:type="dcterms:W3CDTF">2012-04-14T17:17:42Z</dcterms:modified>
  <cp:revision>3</cp:revision>
  <dc:subject/>
  <dc:title>Surfwax.com</dc:title>
</cp:coreProperties>
</file>